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1B000-2312-4844-BDF6-BA825EE3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B0A48-0A9B-4B0B-9698-0CEA218F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4EE74-C404-4329-870A-F37F31BEB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276C0-0952-4519-88C2-8FDCA3974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F3FB-49C9-4CD2-BA50-EB748B91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9A55-79E0-4A5E-885E-25DDD36B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8AE3-364C-4262-9608-BF9CDC50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C776-DD82-463A-8178-3B8F4E54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0297-7F0F-4B02-ACDE-17819B05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5CF4-4110-4267-A2E9-1DB098A5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56B1-2C94-4651-8255-DB7A9386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69F5E-BE9B-4F88-A343-51C76C17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1544-BDBC-4021-B47C-6F94FE19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50A1-8494-4B07-8CF2-316F4860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5DCD-3789-4732-AEE4-E7A67401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3410-9338-429E-8C18-146D37325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00BC-A800-40BD-9CED-C55F581C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AC0A1-6840-4D6C-B81C-D0D2B8B4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DDFB1-6820-4AB4-B64B-B66A60E1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86BDB-C45D-40A8-B69B-293E8FD0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04A01-2626-46A5-85C5-CF8FCB90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8563F-B4E6-4DEB-9B1D-AE8E4B24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27FDB-D452-488E-BA30-9C14F94C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ACEBB-2680-4D4F-814E-D10B8D80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D189-9150-401B-9BEA-87CDD04854B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0F4F-B9A0-4955-A336-D9C6CA999548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540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48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.12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Грешни търси да спас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авний Бог и наш Отец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радост Той ще донес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отчаян страдалец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огласете в целий свя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ест на радост и възторг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й-отчаян грешник кле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приеме наший Бог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541440" y="1627200"/>
            <a:ext cx="10082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i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О, елате при Христа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вий, измъчени души!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Той с прощение в пълнот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и с любов ще утеши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огласете в целий свя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ест на радост и възторг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й-отчаян грешник кле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приеме наший Бог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508760"/>
            <a:ext cx="9577440" cy="31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Бог прошепна тез слов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на мен с небесен чар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с любов ме призов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зе ми тежкия товар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огласете в целий свя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ест на радост и възторг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й-отчаян грешник кле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приеме наший Бог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-252360" y="1508760"/>
            <a:ext cx="9577440" cy="31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4. Ей, сега съм във поко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ед закона чист стоя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изкупи греха мой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с кръвта, що Той проля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огласете в целий свя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ест на радост и възторг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й-отчаян грешник кле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приеме наший Бог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1-28T09:25:00Z</dcterms:modified>
  <cp:revision>184</cp:revision>
  <dc:subject/>
  <dc:title>Slide 1</dc:title>
</cp:coreProperties>
</file>